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0C3A-25E0-49A9-98B0-32B0B989FD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Performance tool is found in the Administrative Tools folder on the Start me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r via Control Panel). The Performance tool has three functions: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ing, viewing performance counter logs, and setting alerts. For simplicity, when 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er to the Performance tool, we are referring to the System Monitor function within the too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Performance tool can provide more information about how your system is operating t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y other single utility. It includes hundreds of counters for various objects. For each maj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ic described in this book, a table of the relevant Windows performance counters 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Performance tool contains a brief description for each counter. To see the description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a counter in the Add Counter window and click the Explain button. Or open the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ter Reference help file in the resource kit. For information on how to interpr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counters to detect bottlenecks or plan capacity, see the section “Performance Monitoring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the Windows 2000 Server Operations Guide, which is part of the Windows 2000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ource Kit. These chapters provide an excellent description to anyone seriously inter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understanding Windows performance. For Windows XP and Windows Server 2003 , s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Windows Server 2003 Resource Kit Performance Counters Reference docu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vailable online at www.microsoft.com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gistry is the mechanism to access performance counter values on Windows, whe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ose are from operating system components or server applications. One of the side benef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roviding access to the performance counters via the registry is that remote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ing works “for free” because the registry is easily accessible remotely through the norm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ry AP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 access the registry performance counter information directly by opening a special k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d HKEY_PERFORMANCE_DATA and querying values beneath it. You won’t find t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 by looking in the Registry Editor; this key is available only programmatically through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dows registry functions, such as RegQueryValueEx. Performance information isn’t actu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d in the registry; the registry functions use this key to locate the information from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provid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 also access performance counter information by using the Performance Data Hel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DH) functions available through the Performance Data Helper API (Pdh.dl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D1A1-EAE4-4AC4-8B35-7668F33361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22240" y="703440"/>
            <a:ext cx="5621400" cy="42163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6600" y="5342040"/>
            <a:ext cx="5886360" cy="33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ab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Microsoft Notepad utility (Notepad.ex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the Performance tool by selecting Programs from the Start menu and then  selecting Performance from the Adminstrative Tools men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chart view if you’re in some other vie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he Add button on the toolbar to bring up the Add Counters dialog bo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the process performance object, and then select counters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 privileged time/user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Click the Explain button to see the definition of the val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Instances box, scroll down until you see the Notepad process (notepad/0);  select it, and click the Add butt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un TaskManager.exe, display kernel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s (globally unique identifi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I - Windows Management Instr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ction presents general approaches to performance evaluation and prediction which are then discussed in context of the Windows 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articular, we discuss performance monitor and Microsoft Management Console (mmc) tools which allow for investigation and monitoring of a multitude of performance counters throughout the system. After presenting an overview on performance counters, scheduling- and memory-related performance counters are discussed in some de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cussion of Event Tracing for Windows (ETW) and the corresponding system logging mechanisms concludes this 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36CED-28E9-455E-8079-3F139B7FF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E7792-C402-4740-9462-C4E739769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2A00F-27C5-43AD-ACEC-A7EBA1AEF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C2A8B-87DD-4223-A9B9-7657F1E6EE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010F6-5471-4DCB-9E28-9A61BE740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F9FD6-00C4-4E9E-BEE4-DA9909829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5526E-5ED9-48C6-8887-F111F73C1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A4FF0-4574-4A83-BECF-8498E084F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C135D-EF52-4078-85B0-2398D7FCD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92992-A44F-4EA4-8249-3452B460A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88418-92A3-4F10-8E86-509051C275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55D9D-F2D4-4D0B-A44C-A78F273CD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6312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DE45-E621-4EA5-88A6-93B2A4AE301D}" type="slidenum">
              <a:rPr b="0" lang="en-US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760" y="2282760"/>
            <a:ext cx="7493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11: Performance Evaluation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1960" y="4006800"/>
            <a:ext cx="7197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.1. System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tain System Information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th Process Explor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View-&gt;System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5943600" cy="459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5CC43-5FAB-4750-9751-36EFFCDA57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verview of Performance Data Collection</a:t>
            </a:r>
            <a:br>
              <a:rPr sz="4000"/>
            </a:b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24720" indent="-3247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 defines performance data in terms of objects, counters, and ins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erformance object is any resource, application, or service that can be measu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Monitor and Performance Logs and Alerts allow to select performance objects, counters, and instances to collect and present performanc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720" indent="-3247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s have performance count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s may also have instances, which are unique copies of a particular object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all object types support multiple inst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Total instance represents the sum of the values for all instances of the object for a specific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86911-2D87-4C4F-A5AC-97C478622A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Vast Array of Performance Data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41708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DDC89-872E-493A-B800-373DC40597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erformance Counter Aggregation into Performance Logs (via mmc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02E08-8F5B-458E-802C-9D72A86A6E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eal-time Data Collection with Performance Monito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16120" y="1625760"/>
            <a:ext cx="7510320" cy="460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D6DD6-8496-492A-A1C4-35B40839C9E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ndows Performance Counters - </a:t>
            </a: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ategories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Memory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 Page Read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 Page Writ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 Available B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\ Working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\ Private B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F9447-02F7-432D-A8D1-18660E99B3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ndows Performance Counters - </a:t>
            </a: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ategories (contd.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Physical and Logical Disk I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% Disk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Avg. Disk Queue 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Current Disk Queue 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Avg. Disk Sec/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Avg. Disk Sec/Wr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Disk Read Byt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Disk Write Byt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Avg. Disk Bytes/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Avg. Disk Bytes/Wr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Disk Read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Disk Writ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81A4A-64A4-4A57-8EAF-C743520C70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ndows Performance Counters - </a:t>
            </a: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ategories (contd.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Network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Interface\ Bytes Total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Interface\ Bytes Sent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Interface\ Bytes Received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_layer_object\ Segments Received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_layer_object\ Segments Sent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_layer_object\ Frames Sent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_layer_object\ Frames Received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\ Bytes Total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\ Bytes Received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\ Bytes Sent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Segment\ % Network Uti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FBDC7-8AA3-4D2F-B56C-629B924FA1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Analyzing Processor Activ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the baseline on normal workload (from several weeks to a mon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r\ % Processor Time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\Processor Queue Length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aware of the Idle process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dle process runs a thread on each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measure the Idle process, use the Process(Idle)\ % Processor Time counter, or Processes tab in Task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ero idle time could mean that the processor is handling a lot of work, but it could also mean that the processor or central processing unit (CPU) is overloa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3DE3E-25C3-4ADB-A38E-7E9DE0BC0D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etecting Processor Bottlenec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 bottlenecks are indicated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r\ % Processor Time often exceeds 80 percent (and there is no compute-bound worklo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\ Processor Queue Length is often greater than 2 on a single-processor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ue Length is the single most important para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ind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usually high values appear for the Processor(_Total)\ Interrupts/sec or System\ Context Switches/sec coun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003DF-47D0-4A85-8F05-C29020C7C4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A598F-88AA-49DD-954D-064DB9B2DE5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valuating Memory Usag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a reference point (or baseline) for physical memory usage under normal work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 logs of memory usage over an extended period (from several weeks to a mon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evant Performance Cou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\Memory\Available B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\Paging File(_Total)\% U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lude spikes; the range of values that seem to appear consistently constitutes you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01AE2-AD73-45F0-94C7-E2570B9F6F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etecting Memory Bottlenec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ion for insufficient memo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 f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mory\Available By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consistently low (e.g. less than 5% of RA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vailable memory is consistently low, the computer becomes unresponsiv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occupied exclusively with disk I/O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paging due to low memory, the processor is idle while waiting for the disk to fin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9F41A-61B2-49E5-A981-38DD400BC6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Examining Disk Performanc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6320" indent="-3463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 disk counters along with counters from other objects. The following is a list of recommended coun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icalDisk\% Free 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Disk Read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Disk Writ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Avg. Disk Queue 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Available B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Cache B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Pag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r(All_Instances)\% Processor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\Processor Queue 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7B6BA-1819-4313-B451-857A6E70DE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etecting a Disk Bottleneck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g. Disk Queue Length for LogicalDisk or PhysicalD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value of Avg. Disk Queue Length exceeds twice the number of spindles, then you are likely developing a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a volume set, a queue that is never shorter than the number of active physical disks indicates that you are developing a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ice that this might overstate the true length of the queue, because the counter includes both queued and in-service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23D64-D0AD-4D12-9065-8DC7A8B049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unters by Featur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et Information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tive Server Pa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TP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b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et Information Services Glob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ing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dexing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dexing Service Fil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6995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dexing Servi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ssage Queu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MQ 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MQ 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MQ Que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MQ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925280"/>
            <a:ext cx="403848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9807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lity of Service (QoS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ssion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S/RSVP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S/RSVP Interfa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S/RSVP Poli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uting and Remote Access (RR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S 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S To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e Replication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eReplicaCon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eReplic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minal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rminal Services 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 Directory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T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6720" y="990720"/>
            <a:ext cx="614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 services and apps may bring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wn performance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7323D-F4B3-4E86-8332-85A85C12AA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nel Event Trac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kernel and core device drivers are instrumented  to record trace da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 Tracing for  Windows (ETW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infrastructure in the kernel that provides trace data to the user-mode fac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W is accessed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l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start and stop logging sessions and manages buffer p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define GUIDs for the event classes they can produce traces for; act on Controllers’ comm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um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lect one or more trace sessions for which the want to read  trace data (in real-time or in log fi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1406E-8252-4A00-8117-8ED57113556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TW Providers and Kernel Logg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Server systems include several built-in providers in user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Directory, Kerberos, and Netlo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W defines a logging session with the name NT  Kernel Logger (kernel logger) for use by the kernel and core driver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 Kernel Logger provider is implemented in the ker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DEFB1-6552-4724-BDEF-87612A63FB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ser mode controllers may enable kernel logger - ETW Operation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W library sends I/O control request to the WMI driver to enable tracing on a particular event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W library is implemented in \Windows\System32\Ntdll.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file logging is configured the WMI driver creates a system thread in system process that creates a log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ternatively, logging may use an in-memory buf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MI driver records trace events to a bu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e logging thread  wakes up once per second to dump the contents of the buffers to the log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ce records generated for the kernel logger have a standard ETW trace event 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11640" indent="-266760">
              <a:spcBef>
                <a:spcPts val="400"/>
              </a:spcBef>
              <a:spcAft>
                <a:spcPts val="400"/>
              </a:spcAft>
              <a:buSzPct val="14159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der records timestamp, process, and thread IDs, info on event clas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11640" indent="-266760">
              <a:spcBef>
                <a:spcPts val="400"/>
              </a:spcBef>
              <a:spcAft>
                <a:spcPts val="400"/>
              </a:spcAft>
              <a:buSzPct val="141591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nt classes can provide additional data specific to their ev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4E3B7-88D9-48BD-B6E0-DF1460A1251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race and Logging Data may be accessed via mmc 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43000" y="1562040"/>
            <a:ext cx="6959520" cy="52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C18FE-B685-454A-BB0C-C0080B85DBC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nel Logger Trace Class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s classes and their generating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k I/O - disk class dr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 I/O - file system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ware Configuration - plug&amp;play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age Load/Unload - system image loader in the kerne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ge Faults - memory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 Create/Delete - process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ad Create/Delete - process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stry Activity - Configuration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CP/UDP Activity - TCP/IP dr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W controllers/providers described in Platform S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E0FB8-AC0C-47FB-B3E7-0B9594FF0F5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11.1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Evaluation and Pred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ls for Monitoring Windows Inte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Monitor and mm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duling-related Performance Cou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-related Performance Cou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Event Tra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18E3E-3AEF-489D-867F-C98039A2D9B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Using Event Logs and Performance Counters for Optimiza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must be tuned to a workl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equence of service requests, commands, I/Os that exercise th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produced by workload generators rather than real-world service pro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 for replay or generation of service requests at a maximum rate so that bottlenecks can be identified in syste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workloads are domain-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.e.; TPC benchmarks and worklo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“optimal” system configuration per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C25D0-B02A-4465-8C36-338CFF79659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urther Read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 E. Russinovich and David A. Solomo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Windows Internals, 4th Edition, Microsoft Press, 200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pter 1 - Concepts and Tool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Tool, Support Tools,  Resource Kits, pp. 25-34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pter 4 - Management Mechanism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Management Instrumentation, pp. 237-2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pter 3 - System Mechanism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Tracing for Windows, pp. 177-1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Performance Counter Re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msdn.microsoft.com/library/default.asp?url=/library/en-us/counter/default.as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1C4CE-BF53-4C5F-A96F-30C7A01D2E6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ource Code Referenc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Research Kernel (WRK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perf – core performance logging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ex\sysinfo.c – system/process performance query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E95A9-36F8-4BC6-AF3D-2D86046C8BCC}" type="slidenum">
              <a:t>32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erformance Prediction and Evaluation 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ng a model of the system and then using the model to predict the system's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reflects system structure or organization as well as its workload or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zed using mathematical techniq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, the model may be simul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chmarking &amp;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ng behavior of a liv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efined worklo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82F11-E528-4EA0-B98E-E8D2116B6C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odeling Approach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tic modeling techniqu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rete- and continuous-time Markov ch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ueing theory, and queueing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ximate methods based on these techniq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onal analy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stochastic, measurement-based perspective to the analysis of computer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ed with discrete-event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ance metrics from stochastic simulations are subject to statistical analysis (as are data obtained from real syst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3C58D-156E-4398-B825-C256CAA4FC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Validity of Model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s, whether analytic or simulation, can be inaccurate or implemented incorrec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mportant aspect of any kind of performance modeling study is to validate the model and its implementation to whatever extent i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way to do this is to study a system using more than one model, e.g., a simulation model and an analytic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tic modeling of many systems is computationally dema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8F4ED-61C8-46FA-9CD4-A6E419DD4D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onitoring Windows - 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ow to obtain Performance Data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is thoroughly instrumen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counters allow for monitoring of most kernel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tools available to dig into Windows intern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lps to see internals behavior “in action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al sources of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urce Kit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bugging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internal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tool packages with internals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tform Software Development Kit (SD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ice Driver Development Kit (DD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D1488-ACC7-4D2F-82FD-9C876272739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1447920"/>
            <a:ext cx="8686800" cy="53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age Nam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gi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e Monit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EM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Flag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FLAG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Tool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ndle Viewe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NDL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ernel debugger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BG, KD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bugging tools, Platform SDK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DD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ve Kernel Debugging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VEKD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en Handl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H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ource k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ge Fault Monit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FM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Tools, Resource kits,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tform SDK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nding File Mov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NDMOV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formance too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FMON.MSC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built-in tool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ol Monit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OLM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Tools, Windows DDK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s Explore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XP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s Statistic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STA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Tools, Windows 2000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ource kits, Platform SDK,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reskit.com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 Slic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SLIC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2000 resource kit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sk (Process) Lis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LIS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bugging tool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sk Manage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SKMG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built-in tool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DIm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DIM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Tools for Windows Performance Monitoring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D9132-0AC5-4451-A766-5076702C24C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rocess Explorer (Sysinternals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1143000"/>
            <a:ext cx="55627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s performance-related da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s full image path, command line, environment variables, parent process, security access token, open handles, loaded DLLs &amp; mapped f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80880" y="2743200"/>
            <a:ext cx="7696440" cy="39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791320" y="1066680"/>
            <a:ext cx="3111480" cy="441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789C4-6AC1-430F-ABBD-0F19A04831C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9:27:26Z</dcterms:created>
  <dc:creator>David A. Solomon, Mark E. Russinovich, and Andreas Polze</dc:creator>
  <dc:description/>
  <cp:keywords/>
  <dc:language>en-US</dc:language>
  <cp:lastModifiedBy>David Solomon</cp:lastModifiedBy>
  <dcterms:modified xsi:type="dcterms:W3CDTF">2006-02-06T19:00:41Z</dcterms:modified>
  <cp:revision>110</cp:revision>
  <dc:subject>Windows Operating Systems Internals Course</dc:subject>
  <dc:title>Unit OS 11: System Performance Evaluation</dc:title>
</cp:coreProperties>
</file>